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79360" y="687240"/>
            <a:ext cx="457704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23400" y="4349520"/>
            <a:ext cx="5086440" cy="419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2904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2CD750-5855-4D83-BBD2-A9735329D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2904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24D965-00AB-4541-AA81-271D76A63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6480" y="6890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BFF-947F-48DC-A697-C4B9B155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778-291B-4F42-BEDE-FFAD002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CF3-B0A1-46C7-AF3C-3FEFF96E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4DB-D3FA-4B82-AE72-FCC1E4E1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9C0-CB42-4B5A-A879-4F4F80E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223-04A5-474C-9432-7E5D5E6F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09F-0487-4735-844E-399AA3B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98E-F449-4209-A869-AF80F29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695-6992-43DF-8FD9-D2D61FA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51E-72A8-4CB6-B867-1195BD3F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4E7-FF91-4363-8693-8C3E5427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A9A-3C3B-4388-9469-C6894BCA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B784-E764-4BE5-BD32-24F909FA8B9A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BCA-4505-42BB-86ED-D65EF2847A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eachers as facilit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s independent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ore time on research and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ore collaborative learn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etter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ccess to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nhanced learning, higher order of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xtension of schoo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ubtitle 2"/>
          <p:cNvSpPr/>
          <p:nvPr/>
        </p:nvSpPr>
        <p:spPr>
          <a:xfrm>
            <a:off x="309600" y="2006640"/>
            <a:ext cx="85723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spired by Maine Laptop 7</a:t>
            </a:r>
            <a:r>
              <a:rPr b="0" lang="en-US" sz="28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Grad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aptop Initiativ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ubtitle 2"/>
          <p:cNvSpPr/>
          <p:nvPr/>
        </p:nvSpPr>
        <p:spPr>
          <a:xfrm>
            <a:off x="368280" y="177804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ormed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Web Bas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157480" y="725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Problems: dealing with the technical aspects of support, Infrastructure problems,networ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6880" y="1562040"/>
            <a:ext cx="8699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stablish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36:11Z</dcterms:modified>
  <cp:revision>1138</cp:revision>
  <dc:subject>WCDC Final Briefing Packet</dc:subject>
  <dc:title>No Slide Title</dc:title>
</cp:coreProperties>
</file>